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870-4664-427A-B5A7-FF68A7D0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43B-4F29-48C1-8F08-4EEF8D5A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B49-8F90-454E-9661-E7B68668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C7F-D90A-44BB-A9F7-DF55825F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354-C185-4A21-BE3E-AE435484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393-7763-4076-9F3A-02771684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8B1-1A07-4EAF-8BCF-DC4E4665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897-67A7-4422-A7E7-605C30D8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25B-EE74-47CF-8661-1745F386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CEA-472A-4733-BB64-20E92CE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E58-5C76-4F8D-8590-11901AC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7A3-29E5-42F4-AE09-617028EA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77C8-44CE-4905-92C3-B041478C9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n.wikipedia.org/wiki/File:Ciismaniya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6" descr=""/>
          <p:cNvPicPr/>
          <p:nvPr/>
        </p:nvPicPr>
        <p:blipFill>
          <a:blip r:embed="rId1"/>
          <a:stretch/>
        </p:blipFill>
        <p:spPr>
          <a:xfrm>
            <a:off x="2584440" y="396720"/>
            <a:ext cx="3670200" cy="114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t1.gstatic.com/images?q=tbn:ANd9GcQThLfNsz8wIvl4Z0eUizVLCmSuFr_QbUQWU5MCwikikzPHGnoQ"/>
          <p:cNvPicPr/>
          <p:nvPr/>
        </p:nvPicPr>
        <p:blipFill>
          <a:blip r:embed="rId2"/>
          <a:stretch/>
        </p:blipFill>
        <p:spPr>
          <a:xfrm>
            <a:off x="609480" y="1508040"/>
            <a:ext cx="77724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the flag of Soma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t2.gstatic.com/images?q=tbn:ANd9GcTRItUUN5ahHaWEbSEsqTobJX1IO_L-PIFk3fSazsjOICEynWpg"/>
          <p:cNvPicPr/>
          <p:nvPr/>
        </p:nvPicPr>
        <p:blipFill>
          <a:blip r:embed="rId1"/>
          <a:stretch/>
        </p:blipFill>
        <p:spPr>
          <a:xfrm>
            <a:off x="1219320" y="531720"/>
            <a:ext cx="61722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t2.gstatic.com/images?q=tbn:ANd9GcTaiR5OQ7TMGBtIMJIvzaLzmDkXoZ8XEhLHDVKvZr0CN6LrANk-TA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ioseaturtles.org/UserFiles/Image/Somalia-POM-50_rev.jpg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2511360" y="334800"/>
            <a:ext cx="352440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upload.wikimedia.org/wikipedia/commons/thumb/d/d4/Ciismaniya.jpg/200px-Ciismaniy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133720"/>
            <a:ext cx="2652840" cy="27050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80880" y="5334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used many simbles like these to commun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0.gstatic.com/images?q=tbn:ANd9GcQYHZDCjLbkXooM8ry4KAmdDKUdN9qqcnQ7BDe-CDWB01TfXYjT"/>
          <p:cNvPicPr/>
          <p:nvPr/>
        </p:nvPicPr>
        <p:blipFill>
          <a:blip r:embed="rId4"/>
          <a:stretch/>
        </p:blipFill>
        <p:spPr>
          <a:xfrm>
            <a:off x="5257800" y="25146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502920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 Somalias meals are meat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1" descr=""/>
          <p:cNvPicPr/>
          <p:nvPr/>
        </p:nvPicPr>
        <p:blipFill>
          <a:blip r:embed="rId1"/>
          <a:stretch/>
        </p:blipFill>
        <p:spPr>
          <a:xfrm>
            <a:off x="2017800" y="-182520"/>
            <a:ext cx="46576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19520" y="13716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ital city is Mogadis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819520" y="1981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de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952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igion is Sunni 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819520" y="29718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tural resource is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1952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eracy rate 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1" descr=""/>
          <p:cNvPicPr/>
          <p:nvPr/>
        </p:nvPicPr>
        <p:blipFill>
          <a:blip r:embed="rId1"/>
          <a:stretch/>
        </p:blipFill>
        <p:spPr>
          <a:xfrm>
            <a:off x="1487520" y="579600"/>
            <a:ext cx="6192720" cy="1109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905120" y="198108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 is referred to as the Horn of Af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905120" y="2590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gged mountain ranges in the north are called the Karkaar mount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905120" y="3657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ather is hot and dry most of the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90512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animals include: nile crocodiles, elephants, cheetahs and giraff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6:54:04Z</dcterms:created>
  <dc:creator>poweruser</dc:creator>
  <dc:description/>
  <dc:language>en-US</dc:language>
  <cp:lastModifiedBy>poweruser</cp:lastModifiedBy>
  <dcterms:modified xsi:type="dcterms:W3CDTF">2012-02-23T02:36:15Z</dcterms:modified>
  <cp:revision>6</cp:revision>
  <dc:subject/>
  <dc:title>Slide 1</dc:title>
</cp:coreProperties>
</file>